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D79F-9AF8-49E2-AA94-3E46A7E9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8DF8-D4A0-4889-876C-E15F4BE0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97C0-6694-41C9-9CED-305C5EA6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A077-16B6-4F48-87EF-651A6DCF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FF29-94C3-4F3A-848A-2FA53C92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7A47-04F0-4C10-968C-908AD397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4CDC-8FA2-4A98-BBCC-3DABBA4D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1C84-761A-4705-B84F-1828500D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6191-45BC-41E1-BCF8-4DC16463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02D3-609A-40FF-AC25-6132344B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F571-24A1-49A5-AEC6-06F74A34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25E3-2CEE-498D-AE5F-F0F538A2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EF55-554F-44DD-B931-1C61DDB7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1B79-24A3-4474-9913-915ADC95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24F7-9FCA-4336-8F14-BC0CB9B3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451A-FE1E-4F7E-8927-FC7063C3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F707-3350-41A0-B04A-A4F6694E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50DB-F407-41B2-B669-4A1AF245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94CD-5CAC-438D-8F90-81D735FD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AA8B-8F03-4913-A9D7-C8528978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91EC-33CF-48F0-8513-044BEDE2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4258-7758-4EF4-B26A-18322AE9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3AE1-7D9C-48F6-9936-9224A302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36E1-DA9D-4866-8B04-ED74A8D5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31E9-394E-48E8-B548-5B0E85A07AE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91D2-05BE-4606-8D29-6121A076935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player.discoveryeducation.com/index.cfm?guidAssetId=F3DF729C-135D-4DB7-A1A4-E59BC5527C88&amp;blnFromSearch=1&amp;productcode=US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hapter 5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Lesson 3: The Skeletal and Muscular System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248520" y="838080"/>
            <a:ext cx="180324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ould you believe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smallest bone in the body is only 1/5 of an inch – or 5 mm- long. It’s the stirrup bone, or stapes, inside the middle ear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257800" y="3581280"/>
            <a:ext cx="132408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necting Tissues p. 13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artilage, ligaments, and tendons are connecting tissu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link bones and muscles so that the two can work together to move parts of the bod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gure 5.8 describes the types of connecting tissu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238880" y="4800600"/>
            <a:ext cx="14875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uscl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Muscle is tissue that responds to messages from the brain and contracts, or shortens, to cause movemen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me muscles are voluntary, or under your control, such as the muscles in your arms and leg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thers are involuntary and move without you being aware of it. These include muscles of internal organs and blood vessel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162920" y="5327640"/>
            <a:ext cx="1828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3 Main Types of Muscle Tissue – Fig 5.9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keletal Muscle – voluntary, attached to the bon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mooth Muscle – involuntary, found in internal organs such as the stomac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ardiac Muscle – found only in the heart, involuntary. It contracts and relaxes about 70 times per minute, pumping blood to all part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f your bod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629400" y="5346720"/>
            <a:ext cx="20559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igure 5.10, p. 13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Muscular Syste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2286000"/>
            <a:ext cx="4338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orking Together for Move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keletal muscles work in pairs to move bones. Each member of the pair is connected to the bone that is to be mov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 one muscle contracts, the other muscle extends, or lengthen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muscles switch roles to move the bone back to its original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sitio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0" y="4952880"/>
            <a:ext cx="148428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aring for Your Skeletal and Muscular System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xercise regular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at a nutritious die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atch your postu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reat injuries prompt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172200" y="2362320"/>
            <a:ext cx="1832040" cy="1251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221004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os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ame 3 types of joint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are the 3 types of connecting tissue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se the words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contrac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and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extend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in a sentence togeth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The Skeletal and Muscular System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ELL ACTIV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Imagine you have no skeletal system and no muscular system. What would you look like?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Sketch your idea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638680" y="3809880"/>
            <a:ext cx="183852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upport and Movement p. 128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You depend on your skeletal and muscular systems to support you and help you mov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skeletal system is the framework of bones and other tissues that support the bod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638680" y="4572000"/>
            <a:ext cx="15591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upport and Movement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uscles provide the power to move the bod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muscular system consists of tissues that move parts of  the body and operate internal organ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xample: Your leg muscles help you run and your stomach muscles help you digest foo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id you know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re are 206 bones – of many shapes and sizes – and more than 600 muscles in an adult human bod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skeletal system consists of bones, joints, and connecting tissu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400800" y="3048120"/>
            <a:ext cx="306720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Bones and Joints p. 128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ones are made of living tissue and, like other organs, are supplied by blood vessel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do more than just support and protect your bod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ones store calcium and other mineral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 addition, the inner part of bones, called the marrow, makes new blood cell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2920" y="3657600"/>
            <a:ext cx="17524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oints p. 128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Joints are places where two or more bones mee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me joints are immovabl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gure 5.7 identifies some of the major bones in the skeletal system and describes several types on joint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5268960"/>
            <a:ext cx="3962520" cy="1589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962520" y="5268960"/>
            <a:ext cx="3962160" cy="1589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672320" y="5334120"/>
            <a:ext cx="1471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00200" y="609480"/>
            <a:ext cx="6019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id you know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ones are extremely strong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femur, the strongest bone in the body, can withstand 1,200 pounds of pressure per square inch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hard parts of bones are made up of calcium and bundles of a tubelike material called collagen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se thousands of collagen fibers are flexible but strong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2:55:04Z</dcterms:created>
  <dc:creator>GSCS</dc:creator>
  <dc:description/>
  <dc:language>en-US</dc:language>
  <cp:lastModifiedBy>GSCS</cp:lastModifiedBy>
  <dcterms:modified xsi:type="dcterms:W3CDTF">2010-10-28T18:10:26Z</dcterms:modified>
  <cp:revision>9</cp:revision>
  <dc:subject/>
  <dc:title>Chapter 5</dc:title>
</cp:coreProperties>
</file>